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381-1F37-451C-9876-C20A25F9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371-F5ED-4F51-8871-45EDDC51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4DA-CD37-4928-8E73-E5AB8895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9D2-4AC4-498F-A0F1-B29EA52E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A9A-7853-420C-A70A-18FC6C4E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C62-9665-47E6-846E-B15C7370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CFF-889D-42B1-839B-0210E00F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610-EF88-44FE-BA60-4121CBB3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FE0F-1303-4A64-B398-A72A4824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718-1727-47CE-960F-DD923B56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024-E421-4ED8-8712-871C33F1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D65-A5A3-4443-9784-C723E65E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34AA-FA7D-4069-AC86-835FA19CE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in L. We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Bacteria Have a Chance Against Viru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have evolved a way to combat viral infe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 is that defensive mechanism that gives them a fighting ch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entioned earlier RE cut DNA at specific sites on DNA molec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ites are recognized by the base sequence in the DNA molec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 naturally produce 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virus attaches and inserts its DNA, the Bacteria’s RE will attach and cut up the viral DNA rendering it ina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terna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and Phages are constantly trying to improve their effectiveness against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ne evolves so does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have learned to exploit this battle for survival between these two organis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Use 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 have learned to extract RE from Bacteria and use them to cut DNA up and look at what pieces come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RE cut at specific sites on the DNA molec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 put RE and DNA in a reaction tube and put the product into a Electrophoresis gel to see how big the pieces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ing DNA Gels With RE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49356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the Gel and Looking at DNA B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7984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Use 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 can then see how big each piece of DNA is based on how far it moves down the g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pieces stay at the top while smaller ones move towards the 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s of this will be described next l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Doing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preparing a DNA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hen add RE to cut up our DNA molecule for analyses next lab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triction Enzyme (RE) is a enzyme that cuts up DNA molecules at specific 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 cause the molecular bonds between the DNA molecules to break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91040" y="1981080"/>
            <a:ext cx="2849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get RE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 Enzymes are found in bacteria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natural defensive mechanism that protects bacterial cells from viral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even bacteria can be infected by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ge Attacking a Bacteri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17212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ge Life Cyc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Phages find and attach to the cell wall of a bacteria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y attach to the Bacteria they insert their own DNA into the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fected Bacteria Cell will then take the Viral DNA and replicate it and make new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ge inserting it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4051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Hij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ral DNA hijacks the the bacteria cells natural processes to use to replicate its DNA and produce new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kills the bacterial cell but can make hundreds or even thousands of new virus part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Viral Re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1279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05:45Z</dcterms:created>
  <dc:creator>Office 2004 Test Drive User</dc:creator>
  <dc:description/>
  <dc:language>en-US</dc:language>
  <cp:lastModifiedBy>Wichita High School Northwest</cp:lastModifiedBy>
  <dcterms:modified xsi:type="dcterms:W3CDTF">2006-11-06T16:44:37Z</dcterms:modified>
  <cp:revision>3</cp:revision>
  <dc:subject/>
  <dc:title>Restriction Enzymes</dc:title>
</cp:coreProperties>
</file>